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27F-19DE-40E6-B821-E1D657EE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5FE-CFC0-44D9-AD8E-5229BE2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196-B371-46FC-A246-2D02D716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0C8-CC86-431C-8D8B-3E678AD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69B-B26E-47F1-8D20-C1587B3E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AFF-785E-4F1B-9FC6-B499EAC4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A72-F7F0-437F-A19D-A6745D2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679-AB6F-42C4-AD90-7E88AF14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9A2-CD0A-4569-81AE-9F05FFDA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2C7-9544-4599-8F20-0FE2BF5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67B-3290-407E-9A21-59D3C2A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F71-48A0-48F7-B071-AFAB9E0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8567-E672-4803-A1A0-71FDFB64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NN DNSO WG-C Email P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3120" y="11430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19:55:13Z</dcterms:created>
  <dc:creator>A.M.Rutkowski</dc:creator>
  <dc:description/>
  <dc:language>en-US</dc:language>
  <cp:lastModifiedBy>A.M.Rutkowski</cp:lastModifiedBy>
  <dcterms:modified xsi:type="dcterms:W3CDTF">1999-10-10T20:07:44Z</dcterms:modified>
  <cp:revision>2</cp:revision>
  <dc:subject/>
  <dc:title>ICANN DNSO WG-C Email Posts</dc:title>
</cp:coreProperties>
</file>